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7E7-2DF5-4DC9-82A6-CE181E3A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D5F-BA4F-4A74-848D-B13DF341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D6D-ACB2-4C7E-AE7A-E995BF3F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FEB-2ACE-4110-9437-133F8133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50B-517A-4940-8D0F-274197AA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1F4-FADB-4452-866F-9C1DD87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D4B-73FA-4A4B-A200-99DDAC6E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061-A6A0-4DED-8A9E-C5C6215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787-956D-4401-9C84-BD4A27F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96F-26ED-478F-BA32-C389D21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1F2-728B-48DC-A483-CC7ECF0A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A20-288A-4B0D-8B51-B342039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A81-ADB9-456C-94FE-8061804F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071720"/>
          <a:ext cx="8839440" cy="47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71720"/>
                    <a:ext cx="88394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3:50:50Z</dcterms:created>
  <dc:creator>Sudhanshu</dc:creator>
  <dc:description/>
  <dc:language>en-US</dc:language>
  <cp:lastModifiedBy>Sudhanshu</cp:lastModifiedBy>
  <dcterms:modified xsi:type="dcterms:W3CDTF">2009-01-27T23:51:31Z</dcterms:modified>
  <cp:revision>1</cp:revision>
  <dc:subject/>
  <dc:title>Slide 1</dc:title>
</cp:coreProperties>
</file>